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E733-2216-40FE-9EA3-28CAB53F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694-5501-45B0-AE3C-9287D783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712-B01E-44A5-8574-968CE7C5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5AF-839F-4EAC-882C-718DAFE4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7A8-488D-468B-A694-6ED2D4A5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CD2-6187-48CE-8971-9DFA86C4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98B-ED8A-4F95-96E4-5C6C849F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C04-192A-4373-9069-5060B9A8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EDFA-657B-4051-AF9F-F3E00A8D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5483-B895-4D0B-A088-2315DE60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042-1B32-4DF4-8320-70324670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901-F454-49B5-B7B5-BE3BFDD0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D312-73FF-426E-A94E-744031A5D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e81679.cgm"/>
          <p:cNvPicPr/>
          <p:nvPr/>
        </p:nvPicPr>
        <p:blipFill>
          <a:blip r:embed="rId1"/>
          <a:stretch/>
        </p:blipFill>
        <p:spPr>
          <a:xfrm>
            <a:off x="477720" y="0"/>
            <a:ext cx="818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8:10:12Z</dcterms:created>
  <dc:creator>RJKNAPIK</dc:creator>
  <dc:description/>
  <dc:language>en-US</dc:language>
  <cp:lastModifiedBy>gcmyers</cp:lastModifiedBy>
  <dcterms:modified xsi:type="dcterms:W3CDTF">2010-03-05T17:03:58Z</dcterms:modified>
  <cp:revision>1</cp:revision>
  <dc:subject/>
  <dc:title>Slide 1</dc:title>
</cp:coreProperties>
</file>